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20BF-13CB-4F4A-A576-6BDCA223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510D-68D7-420C-9DBB-DF86908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D25B-A788-471F-852F-7FEAE880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8DC4-A303-4A16-8B0E-FCA7BE2E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2414-12BB-41F2-9FB2-8CF43536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55FD-B90C-47D8-BF75-71D6526F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7CFA-C335-4CC4-B3DA-A48F732F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5BA5-CD31-4F0B-9603-E68C0ACE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BAD-7D66-4FEA-A7EA-A7A4EEF5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5F94-CB95-41C2-AEA0-1B30A34C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C7C-A069-4256-AFC9-9050C0F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4DA6-0874-4142-A7C6-764AFEF8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9880-79E2-483E-ACC2-08B7B92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F654-1407-4E7A-80C0-1564DE1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139C-E381-43CC-BD9E-884936A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45E-FC22-4C13-AF99-58CAD33A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9B9E-DEF4-4492-8556-7391B4DB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B9BF-A92B-453A-8D46-3A21B6E0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4920-C6B4-47D2-986B-2DFFA887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5966-C7F1-4491-A93B-DAD1640D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7917-AB2F-40A2-9490-FED0EB40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908E-316F-4347-8E6F-C4459AA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2C45-168B-48C6-B64B-2ABB2C5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003B-3B7B-4865-8DFB-550D488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332-F43F-4920-9E34-8965028F025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8474-BAC5-4358-854E-725AF1D2F40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74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За любовта на наший Сп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лате, братя и сестр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да участвувате с н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лагодатта! Добре дошл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Една надежда имам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дом един, един Отец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на цел ние преследвам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път и един конец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Да мислим и за славний 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га ще се съедини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Исуса на брега блаж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еч не ще се разделим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4:12Z</dcterms:modified>
  <cp:revision>160</cp:revision>
  <dc:subject/>
  <dc:title>Slide 1</dc:title>
</cp:coreProperties>
</file>